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285-2936-46B6-8694-6401AC43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4B2-8414-4091-AE3C-7D39F1D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A0D-E79F-44B2-AC72-3799C71C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692-1BAA-4274-85DA-DA4B9FAF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77C-B71D-4D3B-A284-F8AAC4C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282-D95B-4E75-BFCE-EF5FC36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C1E-2F6F-4574-810E-80D5BC0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DF5-9D8B-419B-89D3-8DF6CD6F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08A-36BB-432B-8FEA-1AD77CC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B9A-6123-48AA-8141-3DD0A8B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582-EEEF-4625-BA42-F816850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45D-111F-419E-8A56-F1BE1BC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288-3ACC-4221-9E57-C854EBA2A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iller"/>
              </a:rPr>
              <a:t>Gorilla vs. Alligato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Chiller"/>
              </a:rPr>
              <a:t>A sad 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6400800" y="2998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914400" y="380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Documents and Settings\jjohnson\Local Settings\Temporary Internet Files\Content.IE5\64TZQHQH\MCj03121220000[1].wmf"/>
          <p:cNvPicPr/>
          <p:nvPr/>
        </p:nvPicPr>
        <p:blipFill>
          <a:blip r:embed="rId3"/>
          <a:stretch/>
        </p:blipFill>
        <p:spPr>
          <a:xfrm>
            <a:off x="4267080" y="0"/>
            <a:ext cx="822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alligator bit the go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鳄鱼咬了猩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arted to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开始打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533520" y="1905120"/>
            <a:ext cx="2514600" cy="187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jjohnson\Local Settings\Temporary Internet Files\Content.IE5\30GCO75N\MCHM00047_0000[1].wmf"/>
          <p:cNvPicPr/>
          <p:nvPr/>
        </p:nvPicPr>
        <p:blipFill>
          <a:blip r:embed="rId2"/>
          <a:stretch/>
        </p:blipFill>
        <p:spPr>
          <a:xfrm>
            <a:off x="2590920" y="1981080"/>
            <a:ext cx="685800" cy="43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jjohnson\Local Settings\Temporary Internet Files\Content.IE5\64TZQHQH\MCj04260200000[1].wmf"/>
          <p:cNvPicPr/>
          <p:nvPr/>
        </p:nvPicPr>
        <p:blipFill>
          <a:blip r:embed="rId3"/>
          <a:stretch/>
        </p:blipFill>
        <p:spPr>
          <a:xfrm flipH="1">
            <a:off x="3200040" y="1219320"/>
            <a:ext cx="2025720" cy="1965240"/>
          </a:xfrm>
          <a:prstGeom prst="rect">
            <a:avLst/>
          </a:prstGeom>
          <a:ln w="0">
            <a:noFill/>
          </a:ln>
        </p:spPr>
      </p:pic>
      <p:sp>
        <p:nvSpPr>
          <p:cNvPr id="97" name="Cloud 8"/>
          <p:cNvSpPr/>
          <p:nvPr/>
        </p:nvSpPr>
        <p:spPr>
          <a:xfrm>
            <a:off x="2057400" y="4800600"/>
            <a:ext cx="2743200" cy="205740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xplosion 1 9"/>
          <p:cNvSpPr/>
          <p:nvPr/>
        </p:nvSpPr>
        <p:spPr>
          <a:xfrm>
            <a:off x="2057400" y="4952880"/>
            <a:ext cx="609480" cy="762120"/>
          </a:xfrm>
          <a:prstGeom prst="irregularSeal1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xplosion 2 10"/>
          <p:cNvSpPr/>
          <p:nvPr/>
        </p:nvSpPr>
        <p:spPr>
          <a:xfrm rot="3101400">
            <a:off x="3810240" y="5943240"/>
            <a:ext cx="838080" cy="914400"/>
          </a:xfrm>
          <a:prstGeom prst="irregularSeal2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fought for a l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了很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105520" y="3962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Finally the man said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终于男人说：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Documents and Settings\jjohnson\Local Settings\Temporary Internet Files\Content.IE5\Y39XOFVM\MCj04242320000[1].wmf"/>
          <p:cNvPicPr/>
          <p:nvPr/>
        </p:nvPicPr>
        <p:blipFill>
          <a:blip r:embed="rId1"/>
          <a:stretch/>
        </p:blipFill>
        <p:spPr>
          <a:xfrm>
            <a:off x="685800" y="2895480"/>
            <a:ext cx="217800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jjohnson\Local Settings\Temporary Internet Files\Content.IE5\Y39XOFVM\MCj04402090000[1].wmf"/>
          <p:cNvPicPr/>
          <p:nvPr/>
        </p:nvPicPr>
        <p:blipFill>
          <a:blip r:embed="rId2"/>
          <a:stretch/>
        </p:blipFill>
        <p:spPr>
          <a:xfrm>
            <a:off x="3809880" y="5051520"/>
            <a:ext cx="1349640" cy="180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jjohnson\Local Settings\Temporary Internet Files\Content.IE5\GRBJJYRJ\MCj04298170000[1].wmf"/>
          <p:cNvPicPr/>
          <p:nvPr/>
        </p:nvPicPr>
        <p:blipFill>
          <a:blip r:embed="rId3"/>
          <a:stretch/>
        </p:blipFill>
        <p:spPr>
          <a:xfrm>
            <a:off x="3657600" y="4724280"/>
            <a:ext cx="1459080" cy="15400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2514600" y="2819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topped and forgave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停下来原谅了对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le 1"/>
          <p:cNvSpPr/>
          <p:nvPr/>
        </p:nvSpPr>
        <p:spPr>
          <a:xfrm>
            <a:off x="2133720" y="1905120"/>
            <a:ext cx="5105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hiller"/>
              </a:rPr>
              <a:t>The E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gorilla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只大猩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962520" y="52578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re was a 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条鳄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 flipH="1">
            <a:off x="4495320" y="0"/>
            <a:ext cx="202572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2361960" y="47242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met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相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952880" y="5684760"/>
            <a:ext cx="41911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wanted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想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1447920" y="26668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4800600" y="24382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3200400" y="3200400"/>
            <a:ext cx="442800" cy="442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soccer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踢足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棒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jjohnson\Local Settings\Temporary Internet Files\Content.IE5\CX58QCPV\MCj04370490000[1].png"/>
          <p:cNvPicPr/>
          <p:nvPr/>
        </p:nvPicPr>
        <p:blipFill>
          <a:blip r:embed="rId1"/>
          <a:stretch/>
        </p:blipFill>
        <p:spPr>
          <a:xfrm rot="2329200">
            <a:off x="1066320" y="21574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jjohnson\Local Settings\Temporary Internet Files\Content.IE5\64TZQHQH\MCj04260200000[1].wmf"/>
          <p:cNvPicPr/>
          <p:nvPr/>
        </p:nvPicPr>
        <p:blipFill>
          <a:blip r:embed="rId2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jjohnson\Local Settings\Temporary Internet Files\Content.IE5\CX58QCPV\MCj04370740000[1].png"/>
          <p:cNvPicPr/>
          <p:nvPr/>
        </p:nvPicPr>
        <p:blipFill>
          <a:blip r:embed="rId3"/>
          <a:stretch/>
        </p:blipFill>
        <p:spPr>
          <a:xfrm flipH="1" rot="17550600">
            <a:off x="5358960" y="44445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jjohnson\Local Settings\Temporary Internet Files\Content.IE5\IZL375VI\MCj01511610000[1].wmf"/>
          <p:cNvPicPr/>
          <p:nvPr/>
        </p:nvPicPr>
        <p:blipFill>
          <a:blip r:embed="rId4"/>
          <a:stretch/>
        </p:blipFill>
        <p:spPr>
          <a:xfrm flipH="1">
            <a:off x="1371240" y="1447920"/>
            <a:ext cx="25146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played Basketball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打篮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5105520" y="510552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They also sk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也滑了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Documents and Settings\jjohnson\Local Settings\Temporary Internet Files\Content.IE5\IZL375VI\MCj01511610000[1].wmf"/>
          <p:cNvPicPr/>
          <p:nvPr/>
        </p:nvPicPr>
        <p:blipFill>
          <a:blip r:embed="rId1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jjohnson\Local Settings\Temporary Internet Files\Content.IE5\CX58QCPV\MCj04370410000[1].png"/>
          <p:cNvPicPr/>
          <p:nvPr/>
        </p:nvPicPr>
        <p:blipFill>
          <a:blip r:embed="rId2"/>
          <a:stretch/>
        </p:blipFill>
        <p:spPr>
          <a:xfrm>
            <a:off x="1905120" y="2209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jjohnson\Local Settings\Temporary Internet Files\Content.IE5\BWJA6VH8\MCj02997890000[1].wmf"/>
          <p:cNvPicPr/>
          <p:nvPr/>
        </p:nvPicPr>
        <p:blipFill>
          <a:blip r:embed="rId3"/>
          <a:stretch/>
        </p:blipFill>
        <p:spPr>
          <a:xfrm rot="2456400">
            <a:off x="6370200" y="43495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jjohnson\Local Settings\Temporary Internet Files\Content.IE5\64TZQHQH\MCj04260200000[1].wmf"/>
          <p:cNvPicPr/>
          <p:nvPr/>
        </p:nvPicPr>
        <p:blipFill>
          <a:blip r:embed="rId4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One day they did not know what to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一天他们不知道该玩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Blackoak Std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4876920" y="434340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hiller"/>
              </a:rPr>
              <a:t>A man said “football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有人说：橄榄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jjohnson\Local Settings\Temporary Internet Files\Content.IE5\W6W5RWIA\MCj01988200000[1].wmf"/>
          <p:cNvPicPr/>
          <p:nvPr/>
        </p:nvPicPr>
        <p:blipFill>
          <a:blip r:embed="rId1"/>
          <a:stretch/>
        </p:blipFill>
        <p:spPr>
          <a:xfrm rot="2848800">
            <a:off x="3606480" y="5327280"/>
            <a:ext cx="129528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y sai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问：怎么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man taugh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那人教了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jjohnson\Local Settings\Temporary Internet Files\Content.IE5\W6W5RWIA\MCED00105_0000[1].wmf"/>
          <p:cNvPicPr/>
          <p:nvPr/>
        </p:nvPicPr>
        <p:blipFill>
          <a:blip r:embed="rId1"/>
          <a:stretch/>
        </p:blipFill>
        <p:spPr>
          <a:xfrm>
            <a:off x="3827520" y="1957320"/>
            <a:ext cx="2039760" cy="231624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So they 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他们玩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It was almost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即将结束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johnson\Local Settings\Temporary Internet Files\Content.IE5\64TZQHQH\MCj04260200000[1].wmf"/>
          <p:cNvPicPr/>
          <p:nvPr/>
        </p:nvPicPr>
        <p:blipFill>
          <a:blip r:embed="rId1"/>
          <a:stretch/>
        </p:blipFill>
        <p:spPr>
          <a:xfrm>
            <a:off x="5867280" y="3124080"/>
            <a:ext cx="2025720" cy="196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>
            <a:off x="228600" y="17524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jjohnson\Local Settings\Temporary Internet Files\Content.IE5\FMIT817P\MCj02998950000[1].wmf"/>
          <p:cNvPicPr/>
          <p:nvPr/>
        </p:nvPicPr>
        <p:blipFill>
          <a:blip r:embed="rId3"/>
          <a:stretch/>
        </p:blipFill>
        <p:spPr>
          <a:xfrm rot="18156000">
            <a:off x="5736960" y="3595320"/>
            <a:ext cx="1827360" cy="97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jjohnson\Local Settings\Temporary Internet Files\Content.IE5\FMIT817P\MCj02998950000[1].wmf"/>
          <p:cNvPicPr/>
          <p:nvPr/>
        </p:nvPicPr>
        <p:blipFill>
          <a:blip r:embed="rId4"/>
          <a:stretch/>
        </p:blipFill>
        <p:spPr>
          <a:xfrm rot="1181400">
            <a:off x="719280" y="1955880"/>
            <a:ext cx="1827000" cy="96840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0" y="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Gorilla was ahead b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猩猩领先一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105520" y="5532480"/>
            <a:ext cx="40384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alligator was 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hiller"/>
                <a:ea typeface="宋体"/>
              </a:rPr>
              <a:t>鳄鱼很生气</a:t>
            </a: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jjohnson\Local Settings\Temporary Internet Files\Content.IE5\FMIT817P\MCj04347260000[1].png"/>
          <p:cNvPicPr/>
          <p:nvPr/>
        </p:nvPicPr>
        <p:blipFill>
          <a:blip r:embed="rId1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jjohnson\Local Settings\Temporary Internet Files\Content.IE5\IZL375VI\MCj01511610000[1].wmf"/>
          <p:cNvPicPr/>
          <p:nvPr/>
        </p:nvPicPr>
        <p:blipFill>
          <a:blip r:embed="rId2"/>
          <a:stretch/>
        </p:blipFill>
        <p:spPr>
          <a:xfrm flipH="1">
            <a:off x="5866920" y="388620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jjohnson\Local Settings\Temporary Internet Files\Content.IE5\FMIT817P\MCj04244520000[1].wmf"/>
          <p:cNvPicPr/>
          <p:nvPr/>
        </p:nvPicPr>
        <p:blipFill>
          <a:blip r:embed="rId3"/>
          <a:stretch/>
        </p:blipFill>
        <p:spPr>
          <a:xfrm>
            <a:off x="5410080" y="3429000"/>
            <a:ext cx="2028960" cy="9777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57:23Z</dcterms:created>
  <dc:creator>itsuser</dc:creator>
  <dc:description/>
  <dc:language>en-US</dc:language>
  <cp:lastModifiedBy>itsuser</cp:lastModifiedBy>
  <dcterms:modified xsi:type="dcterms:W3CDTF">2009-04-23T16:25:00Z</dcterms:modified>
  <cp:revision>11</cp:revision>
  <dc:subject/>
  <dc:title>Gorilla vs. Alligator</dc:title>
</cp:coreProperties>
</file>